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44CE-E460-465F-A7C4-E3EE67AD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0292-9338-424D-8462-520CC9A0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6334-E6F6-4260-B36A-0B4BA8F0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A6BE-2F8C-4A7B-8CFA-2693793E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3EB9-2217-4F62-A6AA-0B544B19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AEB1-2C4C-4415-89EF-52A6CFF2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F526-5407-4C4B-A124-396CDC14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AF39-D8D7-4514-90A7-92032F1C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403A-BF7A-4C6C-8F53-CB41A61B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D8A0-A8F5-468A-88AA-4628B131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2153-BDB8-434E-936A-2D439E3F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F61C-C39A-48F9-B1DE-94EED2D1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5E2D-7EE2-4B72-9E0D-26F6BEC0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12C9-7EF0-4EDA-B015-1A498148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061C-82A3-4303-BA56-8F7D009A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E007-AE78-4E97-A9C7-B00851BD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2259-5416-411A-BA2F-EF32C5AA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F4FC-F8F1-4196-B2BE-00E1E650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0539-C745-4EDA-8524-245A6FC1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97F4-2015-4C71-91B1-AA2FB56D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F39B-C5DE-4846-B6CC-D203C485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340A-2C73-4E57-BBAB-FBA96392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968-2686-4940-9E80-66368BCC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FC3F-D436-4F88-AC2F-80F81C15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EA28-1A7C-4BD0-BD39-0F24A703397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9838-A605-4AC6-9F39-DAE77B09D21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440" y="457200"/>
            <a:ext cx="5181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5400" spc="-1" strike="noStrike">
                <a:solidFill>
                  <a:srgbClr val="482400"/>
                </a:solidFill>
                <a:latin typeface="Times New Roman"/>
              </a:rPr>
              <a:t>CP Psychology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The Brain and Behavi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82400"/>
                </a:solidFill>
                <a:latin typeface="Times New Roman"/>
              </a:rPr>
              <a:t>Section 4Q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rainmap" descr="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905120"/>
            <a:ext cx="8458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brainmap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1614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62120" y="3808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 and Behavi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Q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17524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Psychologists Study the B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rcRect l="3701" t="0" r="7407" b="0"/>
          <a:stretch/>
        </p:blipFill>
        <p:spPr>
          <a:xfrm>
            <a:off x="5257800" y="2514600"/>
            <a:ext cx="3657600" cy="4038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5800" y="1828800"/>
            <a:ext cx="487692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612880"/>
            <a:ext cx="45720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hysiological Psychologis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udy the brain by recording, stimulating or by le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r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use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EG machine (Electroencephalograph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or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 electrical brain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brainmap" descr="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1614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62120" y="380880"/>
            <a:ext cx="670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 and Behavi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Q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rcRect l="11185" t="3930" r="3012" b="10875"/>
          <a:stretch/>
        </p:blipFill>
        <p:spPr>
          <a:xfrm>
            <a:off x="0" y="3352680"/>
            <a:ext cx="5029200" cy="3505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029200" y="3505320"/>
            <a:ext cx="42670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de implanted in reward (pleasure) center of the Hypothala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 will accept electrification in order to push a lever that  stimulates reward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1700280"/>
            <a:ext cx="838188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993300"/>
                </a:solidFill>
                <a:latin typeface="Times New Roman"/>
              </a:rPr>
              <a:t>Electro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993300"/>
                </a:solidFill>
                <a:latin typeface="Times New Roman"/>
              </a:rPr>
              <a:t>chemic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used to get neurons to fire in the brain.  We can </a:t>
            </a:r>
            <a:r>
              <a:rPr b="0" i="1" lang="en-US" sz="2800" spc="-1" strike="noStrike">
                <a:solidFill>
                  <a:srgbClr val="993300"/>
                </a:solidFill>
                <a:latin typeface="Times New Roman"/>
              </a:rPr>
              <a:t>electrically/chemica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tivate pleasure, punishment, thirst, hunger, pain ce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brainmap" descr="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1614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62120" y="3808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 and Behavi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Q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175248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905120" y="3060720"/>
            <a:ext cx="5333760" cy="3797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1752480"/>
            <a:ext cx="853452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sion: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sue destruc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69b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rain lesion is a naturally or experimentally caused destruction of brain tissue (to change behavi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rainmap" descr="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614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62120" y="3808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 and Behavi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Q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175248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1828800"/>
            <a:ext cx="8381880" cy="45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ndocrine Syst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nds chemical messages, “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hormones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rough the bloodstream which affect selected organ (and only that organ) at a particula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ituitary Gland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brain) controlled by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hypothala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known as the “</a:t>
            </a:r>
            <a:r>
              <a:rPr b="0" i="1" lang="en-US" sz="2800" spc="-1" strike="noStrike" u="sng">
                <a:solidFill>
                  <a:srgbClr val="666600"/>
                </a:solidFill>
                <a:uFillTx/>
                <a:latin typeface="Times New Roman"/>
              </a:rPr>
              <a:t>master gland</a:t>
            </a:r>
            <a:r>
              <a:rPr b="0" i="1" lang="en-US" sz="2800" spc="-1" strike="noStrike">
                <a:solidFill>
                  <a:srgbClr val="666600"/>
                </a:solidFill>
                <a:latin typeface="Times New Roman"/>
              </a:rPr>
              <a:t>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it controls the entire hormonal system in your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666600"/>
                </a:solidFill>
                <a:latin typeface="Times New Roman"/>
              </a:rPr>
              <a:t>Hormones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cell metabolism in organs including growth/reproduction by regulating and storing nutr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5800" y="2678040"/>
            <a:ext cx="7315200" cy="4103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85800" y="76320"/>
            <a:ext cx="7315200" cy="26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brainmap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1614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62120" y="3808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 and Behavi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Q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175248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0" y="4038480"/>
            <a:ext cx="5334120" cy="2667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0" y="2025720"/>
            <a:ext cx="5334120" cy="2012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486400" y="1828800"/>
            <a:ext cx="365760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yroid gland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es hormones to control lethargy, laziness and over-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drenal gland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eases adrenaline when angry to increase heart rate and brea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brainmap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1614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62120" y="380880"/>
            <a:ext cx="647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 and Behavi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Q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175248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905120"/>
            <a:ext cx="4648320" cy="45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993300"/>
                </a:solidFill>
                <a:latin typeface="Times New Roman"/>
              </a:rPr>
              <a:t>Evolution of human behavi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ems from </a:t>
            </a:r>
            <a:r>
              <a:rPr b="0" lang="en-US" sz="2800" spc="-1" strike="noStrike">
                <a:solidFill>
                  <a:srgbClr val="666600"/>
                </a:solidFill>
                <a:latin typeface="Times New Roman"/>
              </a:rPr>
              <a:t>Charles Darwin’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volutionary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stinct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es specific behaviors seen more in primitive animals than apes/hum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ncts are passed on genetically … not l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334120" y="1828800"/>
            <a:ext cx="3809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brainmap" descr="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6146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62120" y="3808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 and Behavi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Q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175248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1676520"/>
            <a:ext cx="838188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redity/Environment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(Nature/Nurture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t together to control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cal twin psychological studies are often used to test behavioral hypoth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066680" y="3564000"/>
            <a:ext cx="73152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9:48:30Z</dcterms:created>
  <dc:creator>Martel</dc:creator>
  <dc:description/>
  <dc:language>en-US</dc:language>
  <cp:lastModifiedBy>Authorized User</cp:lastModifiedBy>
  <dcterms:modified xsi:type="dcterms:W3CDTF">2006-12-05T15:26:30Z</dcterms:modified>
  <cp:revision>159</cp:revision>
  <dc:subject/>
  <dc:title>No Slide Title</dc:title>
</cp:coreProperties>
</file>